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731-E612-4F2E-84B3-6877401F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78A-F0B3-48EB-906E-CEA49D88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968-A080-4E2F-9BED-9E0B00DB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F3F-8010-4833-B0EA-42F708F6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726C-FEF8-420A-8A1A-D5C10567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6B0-A095-4A73-BA1A-B17382CC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4628-3563-4321-96E0-84E3C0D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8FD0-CCCA-4AAF-8F64-8B591CC8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B4A4-47DF-4A7E-9C9D-C2B1BAA7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CC1C-C786-4259-974E-123FB3E4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C759-9DD2-49B9-89AB-8F48F99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849-3804-4963-B222-EED9F5B6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42D-C141-41BA-A545-83686EB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23C8-4C7D-4E37-B373-9662CD46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856-F987-46AB-9AEF-3F087924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5E31-F0FD-4A39-B6D9-53BEF887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DED-9323-4479-B18A-3DF1F2BF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970-ABCC-4080-BF59-F3997BB3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70C-2493-4C14-AB87-A8512AD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D47-5D95-40B6-BB13-754AE542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1920960"/>
            <a:ext cx="822636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386-531A-4598-B80D-7971E1E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4DE-7322-42C3-B2DB-FFE62D14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5FA-9669-4212-AB50-F4999473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475-766C-40E4-BE0C-DB572E4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D3B3-22C2-42BD-A097-E1E3DF88CC6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BC84-818E-4532-983C-62AD0190E3D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19640" y="333360"/>
            <a:ext cx="21412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ecff"/>
                </a:solidFill>
                <a:uFillTx/>
                <a:latin typeface="Comic Sans MS"/>
              </a:rPr>
              <a:t>Croeseiriau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6960" y="1047600"/>
            <a:ext cx="8091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Mae Ann yn ceisio datrys y croesair yn y papur newyd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pob dyd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Os yw’n llwyddo i ddatrys y croesair yn llwyddiannus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mae’n rhoi </a:t>
            </a:r>
            <a:r>
              <a:rPr b="0" lang="cy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 pwynt iddi hi ei hu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Os nad yw’n llwyddiannus, mae’n colli </a:t>
            </a:r>
            <a:r>
              <a:rPr b="0" lang="cy-GB" sz="24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 pwyn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eaeaea"/>
                </a:solidFill>
                <a:latin typeface="Comic Sans MS"/>
              </a:rPr>
              <a:t>Ar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ôl 30 diwrnod, mae ei sgôr yn ser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Sawl croesair lwyddodd Ann i ddatrys 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23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34:50Z</dcterms:created>
  <dc:creator>Carwyn</dc:creator>
  <dc:description/>
  <dc:language>en-US</dc:language>
  <cp:lastModifiedBy>Carwyn</cp:lastModifiedBy>
  <dcterms:modified xsi:type="dcterms:W3CDTF">2009-01-06T12:18:39Z</dcterms:modified>
  <cp:revision>2</cp:revision>
  <dc:subject/>
  <dc:title>Croeseiriau</dc:title>
</cp:coreProperties>
</file>